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move the slide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4E7F7-0CA7-442A-8165-EF37C16BF8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F2745-B980-4B75-8741-5CE444D4BBAC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9EABC-402E-4A04-B529-075262E355C0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3ACCE-6648-4AB4-9771-8333E11194AF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B1F9C-CC7F-4A18-84A7-57E19D24E257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CEE32-AE12-47F2-8700-575475DA626C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E8BA0-D679-4320-947F-CBC4DA4F7680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3D8FB-7DE4-4356-AD7A-AE871EB05486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C9D5D-75DE-4B50-943B-91BB1FAE32BD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EC1D0-CAD1-4B6E-8958-44E0B9DE6D17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17FCA-9EA0-4CFF-8D95-E004C1326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2D648-6E5F-4F8E-8216-1AD0F173E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759BB-2566-4EA0-AFC5-CBF599719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98163-4282-4DD6-8257-FCD1F6DF7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999A6-CC6C-4947-BB0B-179E58F19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53F82-1BFF-48B0-B3B8-8FBD90439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41DC0-248B-4555-BEA3-CD20D0C0B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CC4EE-94D1-4122-A6E0-2E8652046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D17C9-E6DE-4797-A68D-C296D5D53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1A947-6E5F-4863-BE67-6543C7503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31E12-214D-495E-AC1F-FB83F0AA7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4DE36-F15E-4F67-A7AC-BC2BA492A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531A1-BEE6-49CD-8A58-EA62C277C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B711E-9293-4141-8EBA-5BC9F2E37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731E7-AEC2-40A5-8678-31F132CCF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5D331-4830-4802-B8E3-5FB8DFAAC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5D014-D3D7-446E-A9BF-9C2D898F1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A5F85-F09A-435E-B8D3-1845435C3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45E7C-874B-45D7-A4C6-25723AC4E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9BFBD-51CD-47F3-A249-82F16173F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D2947-B3E4-43E0-9217-7C191914F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65BD4-AFFA-4CBC-AF42-51F88B189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F9BC7-CD48-4740-BA25-BAEE524B4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783AF-1549-48A6-9FCE-01316C967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5881B-C9DA-4962-90A1-8E7330514DA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12E70-AA92-404C-8524-FDA22007306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6524640" cy="43434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6" descr=""/>
          <p:cNvPicPr/>
          <p:nvPr/>
        </p:nvPicPr>
        <p:blipFill>
          <a:blip r:embed="rId2"/>
          <a:stretch/>
        </p:blipFill>
        <p:spPr>
          <a:xfrm>
            <a:off x="0" y="2743200"/>
            <a:ext cx="5105520" cy="41148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5" descr=""/>
          <p:cNvPicPr/>
          <p:nvPr/>
        </p:nvPicPr>
        <p:blipFill>
          <a:blip r:embed="rId3"/>
          <a:stretch/>
        </p:blipFill>
        <p:spPr>
          <a:xfrm>
            <a:off x="5014800" y="0"/>
            <a:ext cx="41292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-360" y="4495680"/>
            <a:ext cx="518148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Times New Roman"/>
              </a:rPr>
              <a:t>Fall leaves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371600" y="3889080"/>
            <a:ext cx="640080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Introduction Question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rite the following questions…leave some space between ea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eec94"/>
              </a:buClr>
              <a:buSzPct val="6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y do trees change color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eec94"/>
              </a:buClr>
              <a:buSzPct val="6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are three pigments found in tre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eec94"/>
              </a:buClr>
              <a:buSzPct val="6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n do we typically see the non dominant pigment and why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Fall Leave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y do trees change colors?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/c of shortening photoperiod -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ength of d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T temperature or weath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ree Pigm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lorophyl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rotenoids  (and xanthrophylls – orang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thocyani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Fall Leave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y don’t we see other pigment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lorophyll is blocking the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lorophyll breaks down in fall and is not replaced… other pigments vi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5638680" y="3505320"/>
            <a:ext cx="3276720" cy="31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Tree Pigment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lorophyl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reen organic pigm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nd inside chloroplas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0" name="Picture 2" descr=""/>
          <p:cNvPicPr/>
          <p:nvPr/>
        </p:nvPicPr>
        <p:blipFill>
          <a:blip r:embed="rId1"/>
          <a:stretch/>
        </p:blipFill>
        <p:spPr>
          <a:xfrm>
            <a:off x="457200" y="3276720"/>
            <a:ext cx="2984400" cy="34002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3" descr=""/>
          <p:cNvPicPr/>
          <p:nvPr/>
        </p:nvPicPr>
        <p:blipFill>
          <a:blip r:embed="rId2"/>
          <a:stretch/>
        </p:blipFill>
        <p:spPr>
          <a:xfrm>
            <a:off x="6019920" y="1219320"/>
            <a:ext cx="2844720" cy="21430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4" descr=""/>
          <p:cNvPicPr/>
          <p:nvPr/>
        </p:nvPicPr>
        <p:blipFill>
          <a:blip r:embed="rId3"/>
          <a:stretch/>
        </p:blipFill>
        <p:spPr>
          <a:xfrm>
            <a:off x="4191120" y="3143160"/>
            <a:ext cx="495288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Tree Pigment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22860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rotenoids —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ellow, orange, and brown organic pigm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bsorb other wavelengths of light to assist photosynthes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umans use beta-carotene to help make vitamin A (good for visio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5" name="Picture 2" descr=""/>
          <p:cNvPicPr/>
          <p:nvPr/>
        </p:nvPicPr>
        <p:blipFill>
          <a:blip r:embed="rId1"/>
          <a:stretch/>
        </p:blipFill>
        <p:spPr>
          <a:xfrm>
            <a:off x="6172200" y="4343400"/>
            <a:ext cx="2666880" cy="23083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4" descr=""/>
          <p:cNvPicPr/>
          <p:nvPr/>
        </p:nvPicPr>
        <p:blipFill>
          <a:blip r:embed="rId2"/>
          <a:stretch/>
        </p:blipFill>
        <p:spPr>
          <a:xfrm>
            <a:off x="2743200" y="4267080"/>
            <a:ext cx="3200400" cy="24004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6" descr=""/>
          <p:cNvPicPr/>
          <p:nvPr/>
        </p:nvPicPr>
        <p:blipFill>
          <a:blip r:embed="rId3"/>
          <a:stretch/>
        </p:blipFill>
        <p:spPr>
          <a:xfrm>
            <a:off x="533520" y="3992400"/>
            <a:ext cx="1904760" cy="28656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8" descr=""/>
          <p:cNvPicPr/>
          <p:nvPr/>
        </p:nvPicPr>
        <p:blipFill>
          <a:blip r:embed="rId4"/>
          <a:stretch/>
        </p:blipFill>
        <p:spPr>
          <a:xfrm>
            <a:off x="6886440" y="0"/>
            <a:ext cx="225756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Tree Pigment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thocyani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d, purple and blue colo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t present throughout the year as other pigments (only in autum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duced as the sugar breakdown in the leaf slow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1" name="Picture 4" descr=""/>
          <p:cNvPicPr/>
          <p:nvPr/>
        </p:nvPicPr>
        <p:blipFill>
          <a:blip r:embed="rId1"/>
          <a:stretch/>
        </p:blipFill>
        <p:spPr>
          <a:xfrm>
            <a:off x="5029200" y="4162320"/>
            <a:ext cx="4114800" cy="26956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5" descr=""/>
          <p:cNvPicPr/>
          <p:nvPr/>
        </p:nvPicPr>
        <p:blipFill>
          <a:blip r:embed="rId2"/>
          <a:stretch/>
        </p:blipFill>
        <p:spPr>
          <a:xfrm>
            <a:off x="6629400" y="0"/>
            <a:ext cx="2209680" cy="166536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6" descr=""/>
          <p:cNvPicPr/>
          <p:nvPr/>
        </p:nvPicPr>
        <p:blipFill>
          <a:blip r:embed="rId3"/>
          <a:stretch/>
        </p:blipFill>
        <p:spPr>
          <a:xfrm>
            <a:off x="0" y="4243320"/>
            <a:ext cx="3352680" cy="26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9" dur="5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0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5" dur="5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0" dur="5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Fall Leave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 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ree fall preparation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utrients and sap move into the tre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ascular tissue entering leave closes off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6" name="Picture 4" descr=""/>
          <p:cNvPicPr/>
          <p:nvPr/>
        </p:nvPicPr>
        <p:blipFill>
          <a:blip r:embed="rId1"/>
          <a:stretch/>
        </p:blipFill>
        <p:spPr>
          <a:xfrm>
            <a:off x="3200400" y="3281400"/>
            <a:ext cx="3352680" cy="35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7T01:28:34Z</dcterms:created>
  <dc:creator>David</dc:creator>
  <dc:description/>
  <dc:language>en-US</dc:language>
  <cp:lastModifiedBy>SASD</cp:lastModifiedBy>
  <dcterms:modified xsi:type="dcterms:W3CDTF">2008-10-08T18:19:39Z</dcterms:modified>
  <cp:revision>11</cp:revision>
  <dc:subject/>
  <dc:title>Slide 1</dc:title>
</cp:coreProperties>
</file>